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move the slide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3DC8-882D-4535-91E2-56FB2051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3F1-73D9-4E3A-8D0C-C10172E5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569D-DBB8-41E5-9E3F-997F8D89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905-9003-4166-AD5D-6CAD53CC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F7F-D457-40B1-936E-278AA1FC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A29-01A5-4E83-9980-FCE895F3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1856-69B0-4D3A-8494-2F624BC5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812-1729-4F63-A29A-C94A4F50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E80-93D2-436E-98B0-BA7C9EE4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B3C-82B4-4EE9-8E6B-E4834D2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FB4-0050-48CD-8E27-BB611C38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16A-35DD-4B95-ADA6-D383BF8B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B6D-C238-442D-81A8-D96D694E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1DA5-9C25-4A15-A0A0-7CEF1D3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2334-BCF1-4E62-80D4-490C79E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EC5B-454B-4B40-AEA8-DA12B5A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19FC-28A6-4C75-A2A7-6E53F2F8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2A37-E6E2-4644-8DD3-A16377A6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3642-623F-4D4E-9300-4A2BE85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391-A95F-49DC-AC1C-2B4E313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2CB-6575-4D82-9A82-2FD8A26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6D37-6AAF-4138-9A03-694DD4E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BCC4-B623-420D-9B7D-FAE1084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9AE8-668E-4496-86C6-6FE7B50B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166-1098-4E1D-8CD6-F0CC857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F8B-9BB8-47F9-A0EB-4F05A1C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54C-7CC8-431B-BF93-4EEC6F2B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6D4-0B2D-426B-A5CB-87EF1F71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0F2-BF7C-4D1F-AEB0-E206E5B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E3D-D45C-48FB-B313-D41042D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41A-BCA8-43D9-B1E9-9205CC9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426-3DFD-41DF-9A32-43DD5B9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78E7-7C1F-4B79-B9E4-5C9B8AB11606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551B-9FD6-4358-8B9B-B0D9BDB34330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pic>
        <p:nvPicPr>
          <p:cNvPr id="92" name="Picture 6" descr="Flag of Brazil"/>
          <p:cNvPicPr/>
          <p:nvPr/>
        </p:nvPicPr>
        <p:blipFill>
          <a:blip r:embed="rId1"/>
          <a:stretch/>
        </p:blipFill>
        <p:spPr>
          <a:xfrm>
            <a:off x="2163600" y="198108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istoric of Biodiesel in 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1975 - Starts Plan Production of Vegetable Oils for Energy Purposes (PROÓLEO) . Mixture compulsory 30% in diesel fuel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1980 - Brazil was among the first countries to register a patent for production of fu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istoric of Biodiesel in 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PROÓLEO was never actually implemented, having been replaced by National Alcohol Program (PROÁLCOOL)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2004 - the Federal Government launched the National Program of Biodiesel Production and Use (PNPB)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PNPB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ims to stimulate the production of biodiesel from various oil source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Promote social inclusion, and ensure competitive prices, quality and supply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s based in a in three perspectives: environmental, social and marketing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Law 11.097/05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fter being sanctioned Law 11.097/05, biodiesel production in Brazil began to take shape in fact.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permitted to add 2% biodiesel (B2) to mineral diesel, from voluntary to compulsory admixture from 2008, reaching minimum levels of 5% (B5) from 2013 onward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iodiesel Produc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Biodiesel can be obtained through the following processes: esterification, cracking and transesterification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ransesterification is the most commonly used because have more technological development in relation to other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iodiesel Produc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Biodiesel is obtained by reacting vegetable oils with an active intermediate formed by reaction of an alcohol with a catalyst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"Brazil dominates the technology to produce biodiesel completely renewable, with use of ethanol from sugar cane in place of methanol (derived from oil) during the transesterification process."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2:45:01Z</dcterms:created>
  <dc:creator>Judd Larson</dc:creator>
  <dc:description/>
  <dc:language>en-US</dc:language>
  <cp:lastModifiedBy>Benevides</cp:lastModifiedBy>
  <dcterms:modified xsi:type="dcterms:W3CDTF">2010-11-01T14:24:19Z</dcterms:modified>
  <cp:revision>26</cp:revision>
  <dc:subject/>
  <dc:title>PowerPoint Presentation</dc:title>
</cp:coreProperties>
</file>